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F3874-FDB5-43EA-AADE-E143AA818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6000-C921-48B7-907D-3BF13B6FD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9A9E2-852F-4E62-B307-778DFF28A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B12DD-192C-4F0B-AA07-357C87937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14F00-573E-4FFC-89DC-7EF2DDCDB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71232-A9DF-4FF1-A86C-6E41DC38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9C9A3-3EC7-41FA-9929-9438558D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2DBA4-8805-4D9E-9F1F-4CBAE1720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AA550-AD4C-4BBE-A5FE-85C039208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09F88-7489-46B2-A52C-81CF887CA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9C605-427F-47E6-BA32-4CAB10C4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2EF60-4703-4E8C-80F8-517261F1C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2FE69-AE38-424D-AC6C-BAA5CDDF4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E7C4-5069-470D-9733-DAC8796F8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9B0B2-4E15-4472-A3FE-BC1FC6390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12BDF-417C-4E4B-BB9E-AA220A2D9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B7AA1-FB2A-4D90-9BC7-36EEF81E6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8993E4-DF13-49F9-A9AB-1A85F84FB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35413-437A-4499-BC09-0D1751211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3562F-76C2-49F3-BAB5-1844884EB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3960D-DD0D-4007-86E1-5B67DAEAD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0387B-EAE5-4D00-9996-404B5CFB3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8A69D-E323-4730-A709-FC5FAB16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5C741-8856-4A5F-82FB-217BF33B7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5C939-9819-4D09-8AC6-C402D3CCC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08E1A-036B-44A3-8A65-5B32A2884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AC030-826C-456C-8008-E7ED77972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D855C-E3C2-4596-9BC6-BC877DDED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870059-D0A1-4512-9A7A-ED165657EA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CB546-D939-4356-9F1A-4329077CE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F9E57D-AAAF-4FFC-A190-57EA3514D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C321A-A907-4897-83E4-D1C55A8A9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E3C34-E27A-44C1-94D1-DC921BBFE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DE7B0-3F94-4C40-A9C8-4CD87DF0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C6D8E-B282-4EC5-889C-7D2FEAC31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675E7C-1DBB-4A65-888B-790B61015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FF475-8885-4185-B4D3-09C8D1E9D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D905E-DEAD-4F36-8D5D-1A621D0C3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C6E7A-ED86-49A9-8D5C-D576A946D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149ED-AC3D-4B14-9B9E-A6B90D8D0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FD3F33-F8C6-4D2F-9D3E-2ACADCB87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7B4FC5-D74D-47E4-B67E-71F3BCB1F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5AA6C8-653A-4CF3-B34E-EBC547A9F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F3D74F-957A-4D92-89AD-A2FDAFAB20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4FAD-7ABF-40BF-8A32-60F2F671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D9226-38E4-4650-924C-BBDD5B52F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37118E-CFA9-4102-ABA9-B2EC00F9B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A3CD6-3CD9-4E33-81A5-D5E2582FE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1C4CE-4159-4A8E-9F60-CFBE4DAB8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6F9CF-A462-49A2-9DFD-FD7A064EB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47E18-1D27-4619-AE6B-C18AF07BA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969EB-E563-4E81-8AE0-EBF204451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7EA29-5827-4D72-BF59-D3B119423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5C04E-1BB6-42AD-8DD0-529AC737B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9DBC31-34FE-4C86-BC45-2DE403155A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76C3-0316-4ACD-94B8-CAFABFE1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DADEF-8C99-4A6C-AF5F-003E3C8FA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9B399C-3746-4CFA-ACCB-22A616265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9E902-D791-464B-B15D-B393EDB44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2737D-1981-41F9-B3CE-5DD4FED512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CE220-8C31-463B-9156-4822D8F831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FE0DC-B46F-468E-8482-68DEAC82D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45C655-8150-46F9-B476-F264665C8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47523-112D-4426-A45A-794B8E5FB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CEE24-B421-47D8-BEA1-EEC60D62C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D50FD-AE4F-4A26-8025-4387FDC4F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0A5B-6D5C-4D36-924E-A949BED4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8C56B-D647-4DFD-B3CB-E8715294D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CDF0C-0F77-49A9-A5A8-5FFDC9109F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6F829-9030-4B38-9169-E0A1475A06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409F63-6D3C-4AEA-A016-6F2E1A50A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06B63-64D6-49E3-ABD7-C8D4C57A5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F6522-BFD1-480F-8BCA-713352DAE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57839-FD23-4ED2-897C-FB4153989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3B80D-A99A-4884-A32D-9829148A2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B356B-FBC4-4F86-8937-AC7677475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8BB31-0C37-4D53-8B5E-1E3003839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A0ED-0BE1-431A-A50C-F33A7420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B31E8-8B98-4867-996F-3D3560667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50988E-8C5E-45BA-9727-FB817A311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072A5-4076-4A92-8687-12369682B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D22CB1-E50F-4523-B9B1-CEAE302861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20BCDB-B73B-4E33-9BF9-E817D9F953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E914-10DA-48D9-8A10-7F557033E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6"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7"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8"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5FE6-2C93-442F-923D-A0C71F597102}"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직사각형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1" name="직사각형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2" name="직사각형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3" name="직사각형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4" name="직사각형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5" name="직사각형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6" name="직사각형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7" name="직사각형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8" name="직사각형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D12F-EDD3-45CB-BCFC-D05C8BCE86C4}"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1"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2"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3"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4"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5"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6"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7"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8"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9" name="자유형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0" name="자유형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1" name="자유형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2" name="자유형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3" name="자유형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4" name="자유형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5" name="자유형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6" name="자유형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7" name="자유형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8" name="자유형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9" name="자유형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0" name="자유형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1" name="자유형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2" name="자유형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3" name="자유형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4" name="직사각형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5" name="직사각형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6" name="직사각형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7" name="직사각형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8" name="직사각형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9" name="직사각형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BD70-5C40-44DF-8D6A-83A603C924BA}"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D62F-5D7A-4E3A-98D9-6B7F2A4546B1}"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직사각형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3" name="직사각형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4" name="직사각형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5" name="직사각형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6" name="직사각형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7" name="직사각형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8" name="직사각형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9" name="직사각형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0" name="직사각형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1" name="직사각형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7F5B-412F-4C5D-B53E-5C9B081E8C6C}"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EB3E-6088-47E1-A8D3-59F89AFE0C50}"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5"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6"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7"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8"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9"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0"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1"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2"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3" name="직사각형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4" name="직선 연결선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315" name="그룹 19"/>
          <p:cNvGrpSpPr/>
          <p:nvPr/>
        </p:nvGrpSpPr>
        <p:grpSpPr>
          <a:xfrm>
            <a:off x="8516880" y="1217520"/>
            <a:ext cx="128160" cy="131400"/>
            <a:chOff x="8516880" y="1217520"/>
            <a:chExt cx="128160" cy="131400"/>
          </a:xfrm>
        </p:grpSpPr>
        <p:sp>
          <p:nvSpPr>
            <p:cNvPr id="316" name="직선 연결선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17" name="직선 연결선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18" name="직선 연결선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grpSp>
        <p:nvGrpSpPr>
          <p:cNvPr id="319" name="그룹 25"/>
          <p:cNvGrpSpPr/>
          <p:nvPr/>
        </p:nvGrpSpPr>
        <p:grpSpPr>
          <a:xfrm>
            <a:off x="8669160" y="1370160"/>
            <a:ext cx="129240" cy="131400"/>
            <a:chOff x="8669160" y="1370160"/>
            <a:chExt cx="129240" cy="131400"/>
          </a:xfrm>
        </p:grpSpPr>
        <p:sp>
          <p:nvSpPr>
            <p:cNvPr id="320" name="직선 연결선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21" name="직선 연결선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22" name="직선 연결선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grpSp>
        <p:nvGrpSpPr>
          <p:cNvPr id="323" name="그룹 29"/>
          <p:cNvGrpSpPr/>
          <p:nvPr/>
        </p:nvGrpSpPr>
        <p:grpSpPr>
          <a:xfrm>
            <a:off x="8321760" y="1473120"/>
            <a:ext cx="128160" cy="131400"/>
            <a:chOff x="8321760" y="1473120"/>
            <a:chExt cx="128160" cy="131400"/>
          </a:xfrm>
        </p:grpSpPr>
        <p:sp>
          <p:nvSpPr>
            <p:cNvPr id="324" name="직선 연결선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25" name="직선 연결선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26" name="직선 연결선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CDAB-7DF6-4DEC-A48C-A2B18D6984F6}"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techdigest.tv/mercury.jpg&amp;imgrefurl=http://www.techdigest.tv/2008/07/nasa_probe_disc.html&amp;usg=__ANhgD1thh_Io2UTmJ168SqLBjgo=&amp;h=300&amp;w=300&amp;sz=12&amp;hl=ko&amp;start=8&amp;um=1&amp;tbnid=ZPryz4qbhHeZ2M:&amp;tbnh=116&amp;tbnw=116&amp;prev=/images%3Fq%3Dmercury%26um%3D1%26hl%3Dko%26lr%3D%26sa%3DN" TargetMode="External"/><Relationship Id="rId3" Type="http://schemas.openxmlformats.org/officeDocument/2006/relationships/image" Target="../media/image2.jpeg"/><Relationship Id="rId4" Type="http://schemas.openxmlformats.org/officeDocument/2006/relationships/hyperlink" Target="http://images.google.com/imgres?imgurl=http://techdigest.tv/mercury.jpg&amp;imgrefurl=http://www.techdigest.tv/2008/07/nasa_probe_disc.html&amp;usg=__ANhgD1thh_Io2UTmJ168SqLBjgo=&amp;h=300&amp;w=300&amp;sz=12&amp;hl=ko&amp;start=8&amp;um=1&amp;tbnid=ZPryz4qbhHeZ2M:&amp;tbnh=116&amp;tbnw=116&amp;prev=/images%3Fq%3Dmercury%26um%3D1%26hl%3Dko%26lr%3D%26sa%3DN" TargetMode="External"/><Relationship Id="rId5" Type="http://schemas.openxmlformats.org/officeDocument/2006/relationships/image" Target="../media/image2.jpeg"/><Relationship Id="rId6" Type="http://schemas.openxmlformats.org/officeDocument/2006/relationships/hyperlink" Target="http://images.google.com/imgres?imgurl=http://www.splung.com/cosmology/images/mercury.jpg&amp;imgrefurl=http://www.splung.com/content.php%3Fsid%3D7%26page%3Dmercury&amp;usg=__gemolZOJ3hwyP4kLT7ynD28vJII=&amp;h=354&amp;w=461&amp;sz=34&amp;hl=ko&amp;start=1&amp;um=1&amp;tbnid=mshiO_dkAEIO1M:&amp;tbnh=98&amp;tbnw=128&amp;prev=/images%3Fq%3Dmercury%26um%3D1%26hl%3Dko%26lr%3D" TargetMode="External"/><Relationship Id="rId7" Type="http://schemas.openxmlformats.org/officeDocument/2006/relationships/image" Target="../media/image3.jpeg"/><Relationship Id="rId8" Type="http://schemas.openxmlformats.org/officeDocument/2006/relationships/hyperlink" Target="http://images.google.com/imgres?imgurl=http://www.splung.com/cosmology/images/mercury.jpg&amp;imgrefurl=http://www.splung.com/content.php%3Fsid%3D7%26page%3Dmercury&amp;usg=__gemolZOJ3hwyP4kLT7ynD28vJII=&amp;h=354&amp;w=461&amp;sz=34&amp;hl=ko&amp;start=1&amp;um=1&amp;tbnid=mshiO_dkAEIO1M:&amp;tbnh=98&amp;tbnw=128&amp;prev=/images%3Fq%3Dmercury%26um%3D1%26hl%3Dko%26lr%3D"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제목 1" descr=""/>
          <p:cNvPicPr/>
          <p:nvPr/>
        </p:nvPicPr>
        <p:blipFill>
          <a:blip r:embed="rId1"/>
          <a:stretch/>
        </p:blipFill>
        <p:spPr>
          <a:xfrm>
            <a:off x="476280" y="30240"/>
            <a:ext cx="4602240" cy="1963800"/>
          </a:xfrm>
          <a:prstGeom prst="rect">
            <a:avLst/>
          </a:prstGeom>
          <a:ln w="0">
            <a:noFill/>
          </a:ln>
        </p:spPr>
      </p:pic>
      <p:sp>
        <p:nvSpPr>
          <p:cNvPr id="369" name="PlaceHolder 1"/>
          <p:cNvSpPr>
            <a:spLocks noGrp="1"/>
          </p:cNvSpPr>
          <p:nvPr>
            <p:ph type="subTitle"/>
          </p:nvPr>
        </p:nvSpPr>
        <p:spPr>
          <a:xfrm>
            <a:off x="6429240" y="4500720"/>
            <a:ext cx="2500560" cy="92376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y Ki Hoon</a:t>
            </a:r>
            <a:endParaRPr b="0" lang="en-US" sz="3600" spc="-1" strike="noStrike">
              <a:solidFill>
                <a:srgbClr val="ffffff"/>
              </a:solidFill>
              <a:latin typeface="Corbel"/>
            </a:endParaRPr>
          </a:p>
        </p:txBody>
      </p:sp>
      <p:pic>
        <p:nvPicPr>
          <p:cNvPr id="370" name="Picture 2" descr="http://tbn2.google.com/images?q=tbn:ZPryz4qbhHeZ2M:http://techdigest.tv/mercury.jpg">
            <a:hlinkClick r:id="rId2"/>
          </p:cNvPr>
          <p:cNvPicPr/>
          <p:nvPr/>
        </p:nvPicPr>
        <p:blipFill>
          <a:blip r:embed="rId3"/>
          <a:stretch/>
        </p:blipFill>
        <p:spPr>
          <a:xfrm>
            <a:off x="6715080" y="857160"/>
            <a:ext cx="2214720" cy="2214720"/>
          </a:xfrm>
          <a:prstGeom prst="rect">
            <a:avLst/>
          </a:prstGeom>
          <a:ln w="0">
            <a:noFill/>
          </a:ln>
        </p:spPr>
      </p:pic>
      <p:pic>
        <p:nvPicPr>
          <p:cNvPr id="371" name="Picture 4" descr="http://tbn2.google.com/images?q=tbn:ZPryz4qbhHeZ2M:http://techdigest.tv/mercury.jpg">
            <a:hlinkClick r:id="rId4"/>
          </p:cNvPr>
          <p:cNvPicPr/>
          <p:nvPr/>
        </p:nvPicPr>
        <p:blipFill>
          <a:blip r:embed="rId5"/>
          <a:stretch/>
        </p:blipFill>
        <p:spPr>
          <a:xfrm>
            <a:off x="4929120" y="2000160"/>
            <a:ext cx="2071800" cy="2071800"/>
          </a:xfrm>
          <a:prstGeom prst="rect">
            <a:avLst/>
          </a:prstGeom>
          <a:ln w="0">
            <a:noFill/>
          </a:ln>
        </p:spPr>
      </p:pic>
      <p:pic>
        <p:nvPicPr>
          <p:cNvPr id="372" name="Picture 6" descr="http://tbn2.google.com/images?q=tbn:mshiO_dkAEIO1M:http://www.splung.com/cosmology/images/mercury.jpg">
            <a:hlinkClick r:id="rId6"/>
          </p:cNvPr>
          <p:cNvPicPr/>
          <p:nvPr/>
        </p:nvPicPr>
        <p:blipFill>
          <a:blip r:embed="rId7"/>
          <a:stretch/>
        </p:blipFill>
        <p:spPr>
          <a:xfrm>
            <a:off x="2786040" y="1643040"/>
            <a:ext cx="2332080" cy="1785960"/>
          </a:xfrm>
          <a:prstGeom prst="rect">
            <a:avLst/>
          </a:prstGeom>
          <a:ln w="0">
            <a:noFill/>
          </a:ln>
        </p:spPr>
      </p:pic>
      <p:pic>
        <p:nvPicPr>
          <p:cNvPr id="373" name="Picture 8" descr="http://tbn2.google.com/images?q=tbn:mshiO_dkAEIO1M:http://www.splung.com/cosmology/images/mercury.jpg">
            <a:hlinkClick r:id="rId8"/>
          </p:cNvPr>
          <p:cNvPicPr/>
          <p:nvPr/>
        </p:nvPicPr>
        <p:blipFill>
          <a:blip r:embed="rId9"/>
          <a:stretch/>
        </p:blipFill>
        <p:spPr>
          <a:xfrm>
            <a:off x="714240" y="2571840"/>
            <a:ext cx="2000520" cy="1531800"/>
          </a:xfrm>
          <a:prstGeom prst="rect">
            <a:avLst/>
          </a:prstGeom>
          <a:ln w="0">
            <a:noFill/>
          </a:ln>
        </p:spPr>
      </p:pic>
      <p:pic>
        <p:nvPicPr>
          <p:cNvPr id="374" name="Picture 10" descr="http://www.thejubileeacademy.org/marketing/media/solar_system1.jpg"/>
          <p:cNvPicPr/>
          <p:nvPr/>
        </p:nvPicPr>
        <p:blipFill>
          <a:blip r:embed="rId10"/>
          <a:stretch/>
        </p:blipFill>
        <p:spPr>
          <a:xfrm>
            <a:off x="142920" y="4143240"/>
            <a:ext cx="5572080" cy="2571840"/>
          </a:xfrm>
          <a:prstGeom prst="rect">
            <a:avLst/>
          </a:prstGeom>
          <a:ln w="0">
            <a:noFill/>
          </a:ln>
        </p:spPr>
      </p:pic>
      <p:sp>
        <p:nvSpPr>
          <p:cNvPr id="375" name="Ink 9"/>
          <p:cNvSpPr/>
          <p:nvPr/>
        </p:nvSpPr>
        <p:spPr>
          <a:xfrm>
            <a:off x="3902040" y="5592600"/>
            <a:ext cx="3284640" cy="976320"/>
          </a:xfrm>
          <a:custGeom>
            <a:avLst/>
            <a:gdLst/>
            <a:ahLst/>
            <a:rect l="l" t="t" r="r" b="b"/>
            <a:pathLst>
              <a:path w="9124" h="2711">
                <a:moveTo>
                  <a:pt x="12150" y="16531"/>
                </a:moveTo>
                <a:cubicBezTo>
                  <a:pt x="12157" y="16531"/>
                  <a:pt x="12164" y="16531"/>
                  <a:pt x="12171" y="16531"/>
                </a:cubicBezTo>
                <a:cubicBezTo>
                  <a:pt x="12152" y="16551"/>
                  <a:pt x="12134" y="16597"/>
                  <a:pt x="12107" y="16616"/>
                </a:cubicBezTo>
                <a:cubicBezTo>
                  <a:pt x="12080" y="16635"/>
                  <a:pt x="12035" y="16649"/>
                  <a:pt x="11980" y="16658"/>
                </a:cubicBezTo>
                <a:cubicBezTo>
                  <a:pt x="11767" y="16693"/>
                  <a:pt x="11538" y="16647"/>
                  <a:pt x="11324" y="16679"/>
                </a:cubicBezTo>
                <a:cubicBezTo>
                  <a:pt x="11256" y="16689"/>
                  <a:pt x="11221" y="16710"/>
                  <a:pt x="11155" y="16679"/>
                </a:cubicBezTo>
                <a:cubicBezTo>
                  <a:pt x="11122" y="16663"/>
                  <a:pt x="11077" y="16619"/>
                  <a:pt x="11049" y="16595"/>
                </a:cubicBezTo>
                <a:cubicBezTo>
                  <a:pt x="11016" y="16568"/>
                  <a:pt x="10997" y="16556"/>
                  <a:pt x="10964" y="16510"/>
                </a:cubicBezTo>
                <a:cubicBezTo>
                  <a:pt x="10929" y="16462"/>
                  <a:pt x="10878" y="16390"/>
                  <a:pt x="10858" y="16341"/>
                </a:cubicBezTo>
                <a:cubicBezTo>
                  <a:pt x="10848" y="16315"/>
                  <a:pt x="10841" y="16241"/>
                  <a:pt x="10837" y="16214"/>
                </a:cubicBezTo>
                <a:cubicBezTo>
                  <a:pt x="10818" y="16071"/>
                  <a:pt x="10824" y="15877"/>
                  <a:pt x="10858" y="15748"/>
                </a:cubicBezTo>
                <a:cubicBezTo>
                  <a:pt x="10870" y="15703"/>
                  <a:pt x="10861" y="15691"/>
                  <a:pt x="10880" y="15663"/>
                </a:cubicBezTo>
                <a:cubicBezTo>
                  <a:pt x="10899" y="15635"/>
                  <a:pt x="10914" y="15617"/>
                  <a:pt x="10943" y="15600"/>
                </a:cubicBezTo>
                <a:cubicBezTo>
                  <a:pt x="10976" y="15582"/>
                  <a:pt x="11079" y="15542"/>
                  <a:pt x="11112" y="15536"/>
                </a:cubicBezTo>
                <a:cubicBezTo>
                  <a:pt x="11270" y="15509"/>
                  <a:pt x="11575" y="15502"/>
                  <a:pt x="11726" y="15557"/>
                </a:cubicBezTo>
                <a:cubicBezTo>
                  <a:pt x="11763" y="15570"/>
                  <a:pt x="11801" y="15596"/>
                  <a:pt x="11832" y="15621"/>
                </a:cubicBezTo>
                <a:cubicBezTo>
                  <a:pt x="11892" y="15669"/>
                  <a:pt x="11956" y="15745"/>
                  <a:pt x="12001" y="15790"/>
                </a:cubicBezTo>
                <a:cubicBezTo>
                  <a:pt x="12024" y="15813"/>
                  <a:pt x="12046" y="15819"/>
                  <a:pt x="12065" y="15854"/>
                </a:cubicBezTo>
                <a:cubicBezTo>
                  <a:pt x="12076" y="15874"/>
                  <a:pt x="12079" y="15916"/>
                  <a:pt x="12086" y="15938"/>
                </a:cubicBezTo>
                <a:cubicBezTo>
                  <a:pt x="12101" y="15984"/>
                  <a:pt x="12092" y="16038"/>
                  <a:pt x="12107" y="16087"/>
                </a:cubicBezTo>
                <a:cubicBezTo>
                  <a:pt x="12117" y="16120"/>
                  <a:pt x="12140" y="16154"/>
                  <a:pt x="12150" y="16192"/>
                </a:cubicBezTo>
                <a:cubicBezTo>
                  <a:pt x="12162" y="16241"/>
                  <a:pt x="12165" y="16267"/>
                  <a:pt x="12171" y="16319"/>
                </a:cubicBezTo>
                <a:cubicBezTo>
                  <a:pt x="12178" y="16385"/>
                  <a:pt x="12135" y="16577"/>
                  <a:pt x="12192" y="16616"/>
                </a:cubicBezTo>
                <a:cubicBezTo>
                  <a:pt x="12227" y="16640"/>
                  <a:pt x="12258" y="16624"/>
                  <a:pt x="12298" y="16637"/>
                </a:cubicBezTo>
                <a:cubicBezTo>
                  <a:pt x="12338" y="16650"/>
                  <a:pt x="12365" y="16658"/>
                  <a:pt x="12404" y="16679"/>
                </a:cubicBezTo>
                <a:cubicBezTo>
                  <a:pt x="12459" y="16709"/>
                  <a:pt x="12515" y="16736"/>
                  <a:pt x="12573" y="16764"/>
                </a:cubicBezTo>
                <a:cubicBezTo>
                  <a:pt x="12602" y="16778"/>
                  <a:pt x="12644" y="16821"/>
                  <a:pt x="12658" y="16827"/>
                </a:cubicBezTo>
                <a:cubicBezTo>
                  <a:pt x="12717" y="16854"/>
                  <a:pt x="12722" y="16851"/>
                  <a:pt x="12785" y="16891"/>
                </a:cubicBezTo>
                <a:cubicBezTo>
                  <a:pt x="12837" y="16924"/>
                  <a:pt x="12905" y="16930"/>
                  <a:pt x="12954" y="16954"/>
                </a:cubicBezTo>
                <a:cubicBezTo>
                  <a:pt x="13006" y="16980"/>
                  <a:pt x="12999" y="16999"/>
                  <a:pt x="13039" y="17018"/>
                </a:cubicBezTo>
                <a:cubicBezTo>
                  <a:pt x="13071" y="17034"/>
                  <a:pt x="13135" y="17037"/>
                  <a:pt x="13166" y="17060"/>
                </a:cubicBezTo>
                <a:cubicBezTo>
                  <a:pt x="13185" y="17074"/>
                  <a:pt x="13203" y="17092"/>
                  <a:pt x="13229" y="17103"/>
                </a:cubicBezTo>
                <a:cubicBezTo>
                  <a:pt x="13274" y="17121"/>
                  <a:pt x="13328" y="17143"/>
                  <a:pt x="13377" y="17166"/>
                </a:cubicBezTo>
                <a:cubicBezTo>
                  <a:pt x="13425" y="17189"/>
                  <a:pt x="13436" y="17199"/>
                  <a:pt x="13483" y="17208"/>
                </a:cubicBezTo>
                <a:cubicBezTo>
                  <a:pt x="13522" y="17216"/>
                  <a:pt x="13557" y="17222"/>
                  <a:pt x="13589" y="17230"/>
                </a:cubicBezTo>
                <a:cubicBezTo>
                  <a:pt x="13619" y="17238"/>
                  <a:pt x="13642" y="17243"/>
                  <a:pt x="13674" y="17251"/>
                </a:cubicBezTo>
                <a:cubicBezTo>
                  <a:pt x="13706" y="17259"/>
                  <a:pt x="13729" y="17259"/>
                  <a:pt x="13758" y="17272"/>
                </a:cubicBezTo>
                <a:cubicBezTo>
                  <a:pt x="13784" y="17284"/>
                  <a:pt x="13786" y="17299"/>
                  <a:pt x="13822" y="17314"/>
                </a:cubicBezTo>
                <a:cubicBezTo>
                  <a:pt x="13864" y="17332"/>
                  <a:pt x="13877" y="17322"/>
                  <a:pt x="13906" y="17335"/>
                </a:cubicBezTo>
                <a:cubicBezTo>
                  <a:pt x="13938" y="17349"/>
                  <a:pt x="13957" y="17368"/>
                  <a:pt x="13991" y="17378"/>
                </a:cubicBezTo>
                <a:cubicBezTo>
                  <a:pt x="14027" y="17389"/>
                  <a:pt x="14062" y="17386"/>
                  <a:pt x="14097" y="17399"/>
                </a:cubicBezTo>
                <a:cubicBezTo>
                  <a:pt x="14132" y="17413"/>
                  <a:pt x="14164" y="17436"/>
                  <a:pt x="14203" y="17441"/>
                </a:cubicBezTo>
                <a:cubicBezTo>
                  <a:pt x="14246" y="17447"/>
                  <a:pt x="14338" y="17461"/>
                  <a:pt x="14351" y="17462"/>
                </a:cubicBezTo>
                <a:cubicBezTo>
                  <a:pt x="14371" y="17464"/>
                  <a:pt x="14394" y="17458"/>
                  <a:pt x="14414" y="17462"/>
                </a:cubicBezTo>
              </a:path>
              <a:path w="9124" h="2711">
                <a:moveTo>
                  <a:pt x="14732" y="17611"/>
                </a:moveTo>
                <a:cubicBezTo>
                  <a:pt x="14760" y="17553"/>
                  <a:pt x="14753" y="17489"/>
                  <a:pt x="14753" y="17420"/>
                </a:cubicBezTo>
                <a:cubicBezTo>
                  <a:pt x="14753" y="17274"/>
                  <a:pt x="14755" y="17138"/>
                  <a:pt x="14774" y="16997"/>
                </a:cubicBezTo>
                <a:cubicBezTo>
                  <a:pt x="14780" y="16955"/>
                  <a:pt x="14782" y="16909"/>
                  <a:pt x="14795" y="16870"/>
                </a:cubicBezTo>
                <a:cubicBezTo>
                  <a:pt x="14810" y="16828"/>
                  <a:pt x="14839" y="16799"/>
                  <a:pt x="14859" y="16764"/>
                </a:cubicBezTo>
                <a:cubicBezTo>
                  <a:pt x="14904" y="16775"/>
                  <a:pt x="14903" y="16782"/>
                  <a:pt x="14944" y="16806"/>
                </a:cubicBezTo>
                <a:cubicBezTo>
                  <a:pt x="14992" y="16835"/>
                  <a:pt x="14986" y="16851"/>
                  <a:pt x="15007" y="16912"/>
                </a:cubicBezTo>
                <a:cubicBezTo>
                  <a:pt x="15026" y="16967"/>
                  <a:pt x="15053" y="17025"/>
                  <a:pt x="15071" y="17081"/>
                </a:cubicBezTo>
                <a:cubicBezTo>
                  <a:pt x="15089" y="17138"/>
                  <a:pt x="15110" y="17213"/>
                  <a:pt x="15113" y="17272"/>
                </a:cubicBezTo>
                <a:cubicBezTo>
                  <a:pt x="15113" y="17314"/>
                  <a:pt x="15113" y="17329"/>
                  <a:pt x="15113" y="17357"/>
                </a:cubicBezTo>
                <a:cubicBezTo>
                  <a:pt x="15113" y="17280"/>
                  <a:pt x="15122" y="17217"/>
                  <a:pt x="15134" y="17145"/>
                </a:cubicBezTo>
                <a:cubicBezTo>
                  <a:pt x="15143" y="17092"/>
                  <a:pt x="15140" y="17048"/>
                  <a:pt x="15155" y="16997"/>
                </a:cubicBezTo>
                <a:cubicBezTo>
                  <a:pt x="15171" y="16944"/>
                  <a:pt x="15162" y="16898"/>
                  <a:pt x="15176" y="16849"/>
                </a:cubicBezTo>
                <a:cubicBezTo>
                  <a:pt x="15192" y="16793"/>
                  <a:pt x="15230" y="16760"/>
                  <a:pt x="15240" y="16700"/>
                </a:cubicBezTo>
                <a:cubicBezTo>
                  <a:pt x="15248" y="16652"/>
                  <a:pt x="15257" y="16657"/>
                  <a:pt x="15282" y="16616"/>
                </a:cubicBezTo>
                <a:cubicBezTo>
                  <a:pt x="15307" y="16574"/>
                  <a:pt x="15300" y="16578"/>
                  <a:pt x="15346" y="16573"/>
                </a:cubicBezTo>
                <a:cubicBezTo>
                  <a:pt x="15431" y="16563"/>
                  <a:pt x="15434" y="16667"/>
                  <a:pt x="15473" y="16722"/>
                </a:cubicBezTo>
                <a:cubicBezTo>
                  <a:pt x="15520" y="16789"/>
                  <a:pt x="15548" y="16870"/>
                  <a:pt x="15579" y="16954"/>
                </a:cubicBezTo>
                <a:cubicBezTo>
                  <a:pt x="15596" y="17000"/>
                  <a:pt x="15618" y="17038"/>
                  <a:pt x="15642" y="17081"/>
                </a:cubicBezTo>
                <a:cubicBezTo>
                  <a:pt x="15668" y="17127"/>
                  <a:pt x="15663" y="17157"/>
                  <a:pt x="15663" y="17208"/>
                </a:cubicBezTo>
                <a:cubicBezTo>
                  <a:pt x="15663" y="17247"/>
                  <a:pt x="15678" y="17259"/>
                  <a:pt x="15684" y="17293"/>
                </a:cubicBezTo>
                <a:cubicBezTo>
                  <a:pt x="15697" y="17373"/>
                  <a:pt x="15684" y="17465"/>
                  <a:pt x="15684" y="17547"/>
                </a:cubicBezTo>
              </a:path>
              <a:path w="9124" h="2711">
                <a:moveTo>
                  <a:pt x="16087" y="17208"/>
                </a:moveTo>
                <a:cubicBezTo>
                  <a:pt x="16157" y="17208"/>
                  <a:pt x="16228" y="17208"/>
                  <a:pt x="16298" y="17208"/>
                </a:cubicBezTo>
                <a:cubicBezTo>
                  <a:pt x="16298" y="17165"/>
                  <a:pt x="16310" y="17163"/>
                  <a:pt x="16319" y="17145"/>
                </a:cubicBezTo>
                <a:cubicBezTo>
                  <a:pt x="16332" y="17118"/>
                  <a:pt x="16325" y="17011"/>
                  <a:pt x="16298" y="16997"/>
                </a:cubicBezTo>
                <a:cubicBezTo>
                  <a:pt x="16262" y="16979"/>
                  <a:pt x="16237" y="16976"/>
                  <a:pt x="16192" y="16976"/>
                </a:cubicBezTo>
                <a:cubicBezTo>
                  <a:pt x="16137" y="16976"/>
                  <a:pt x="16068" y="16964"/>
                  <a:pt x="16044" y="16997"/>
                </a:cubicBezTo>
                <a:cubicBezTo>
                  <a:pt x="16019" y="17030"/>
                  <a:pt x="15996" y="17016"/>
                  <a:pt x="15981" y="17060"/>
                </a:cubicBezTo>
                <a:cubicBezTo>
                  <a:pt x="15967" y="17101"/>
                  <a:pt x="15972" y="17147"/>
                  <a:pt x="15960" y="17187"/>
                </a:cubicBezTo>
                <a:cubicBezTo>
                  <a:pt x="15943" y="17242"/>
                  <a:pt x="15938" y="17255"/>
                  <a:pt x="15938" y="17314"/>
                </a:cubicBezTo>
                <a:cubicBezTo>
                  <a:pt x="15938" y="17387"/>
                  <a:pt x="15928" y="17398"/>
                  <a:pt x="15981" y="17441"/>
                </a:cubicBezTo>
                <a:cubicBezTo>
                  <a:pt x="16012" y="17466"/>
                  <a:pt x="16025" y="17462"/>
                  <a:pt x="16065" y="17462"/>
                </a:cubicBezTo>
                <a:cubicBezTo>
                  <a:pt x="16164" y="17462"/>
                  <a:pt x="16263" y="17462"/>
                  <a:pt x="16362" y="17462"/>
                </a:cubicBezTo>
              </a:path>
              <a:path w="9124" h="2711">
                <a:moveTo>
                  <a:pt x="16531" y="16976"/>
                </a:moveTo>
                <a:cubicBezTo>
                  <a:pt x="16531" y="17131"/>
                  <a:pt x="16507" y="17323"/>
                  <a:pt x="16552" y="17462"/>
                </a:cubicBezTo>
                <a:cubicBezTo>
                  <a:pt x="16559" y="17485"/>
                  <a:pt x="16552" y="17523"/>
                  <a:pt x="16552" y="17547"/>
                </a:cubicBezTo>
                <a:cubicBezTo>
                  <a:pt x="16552" y="17483"/>
                  <a:pt x="16563" y="17437"/>
                  <a:pt x="16573" y="17378"/>
                </a:cubicBezTo>
                <a:cubicBezTo>
                  <a:pt x="16580" y="17333"/>
                  <a:pt x="16595" y="17297"/>
                  <a:pt x="16595" y="17251"/>
                </a:cubicBezTo>
                <a:cubicBezTo>
                  <a:pt x="16595" y="17218"/>
                  <a:pt x="16616" y="17204"/>
                  <a:pt x="16616" y="17166"/>
                </a:cubicBezTo>
                <a:cubicBezTo>
                  <a:pt x="16616" y="17115"/>
                  <a:pt x="16625" y="17126"/>
                  <a:pt x="16658" y="17103"/>
                </a:cubicBezTo>
                <a:cubicBezTo>
                  <a:pt x="16697" y="17076"/>
                  <a:pt x="16683" y="17081"/>
                  <a:pt x="16722" y="17060"/>
                </a:cubicBezTo>
                <a:cubicBezTo>
                  <a:pt x="16757" y="17041"/>
                  <a:pt x="16763" y="17039"/>
                  <a:pt x="16806" y="17039"/>
                </a:cubicBezTo>
                <a:cubicBezTo>
                  <a:pt x="16863" y="17039"/>
                  <a:pt x="16919" y="17039"/>
                  <a:pt x="16976" y="17039"/>
                </a:cubicBezTo>
              </a:path>
              <a:path w="9124" h="2711">
                <a:moveTo>
                  <a:pt x="17484" y="17103"/>
                </a:moveTo>
                <a:cubicBezTo>
                  <a:pt x="17437" y="17093"/>
                  <a:pt x="17408" y="17081"/>
                  <a:pt x="17357" y="17081"/>
                </a:cubicBezTo>
                <a:cubicBezTo>
                  <a:pt x="17318" y="17081"/>
                  <a:pt x="17229" y="17061"/>
                  <a:pt x="17208" y="17103"/>
                </a:cubicBezTo>
                <a:cubicBezTo>
                  <a:pt x="17193" y="17132"/>
                  <a:pt x="17196" y="17216"/>
                  <a:pt x="17187" y="17251"/>
                </a:cubicBezTo>
                <a:cubicBezTo>
                  <a:pt x="17174" y="17303"/>
                  <a:pt x="17175" y="17425"/>
                  <a:pt x="17208" y="17462"/>
                </a:cubicBezTo>
                <a:cubicBezTo>
                  <a:pt x="17240" y="17498"/>
                  <a:pt x="17236" y="17494"/>
                  <a:pt x="17272" y="17526"/>
                </a:cubicBezTo>
                <a:cubicBezTo>
                  <a:pt x="17319" y="17568"/>
                  <a:pt x="17336" y="17601"/>
                  <a:pt x="17399" y="17611"/>
                </a:cubicBezTo>
                <a:cubicBezTo>
                  <a:pt x="17436" y="17617"/>
                  <a:pt x="17457" y="17613"/>
                  <a:pt x="17484" y="17589"/>
                </a:cubicBezTo>
                <a:cubicBezTo>
                  <a:pt x="17503" y="17570"/>
                  <a:pt x="17510" y="17566"/>
                  <a:pt x="17505" y="17547"/>
                </a:cubicBezTo>
              </a:path>
              <a:path w="9124" h="2711">
                <a:moveTo>
                  <a:pt x="17716" y="17145"/>
                </a:moveTo>
                <a:cubicBezTo>
                  <a:pt x="17716" y="17181"/>
                  <a:pt x="17732" y="17195"/>
                  <a:pt x="17738" y="17230"/>
                </a:cubicBezTo>
                <a:cubicBezTo>
                  <a:pt x="17751" y="17301"/>
                  <a:pt x="17766" y="17370"/>
                  <a:pt x="17780" y="17441"/>
                </a:cubicBezTo>
                <a:cubicBezTo>
                  <a:pt x="17788" y="17479"/>
                  <a:pt x="17801" y="17507"/>
                  <a:pt x="17801" y="17547"/>
                </a:cubicBezTo>
                <a:cubicBezTo>
                  <a:pt x="17801" y="17595"/>
                  <a:pt x="17809" y="17614"/>
                  <a:pt x="17822" y="17653"/>
                </a:cubicBezTo>
                <a:cubicBezTo>
                  <a:pt x="17832" y="17684"/>
                  <a:pt x="17859" y="17734"/>
                  <a:pt x="17886" y="17738"/>
                </a:cubicBezTo>
                <a:cubicBezTo>
                  <a:pt x="17920" y="17742"/>
                  <a:pt x="17932" y="17759"/>
                  <a:pt x="17970" y="17759"/>
                </a:cubicBezTo>
                <a:cubicBezTo>
                  <a:pt x="18016" y="17759"/>
                  <a:pt x="18022" y="17749"/>
                  <a:pt x="18055" y="17716"/>
                </a:cubicBezTo>
                <a:cubicBezTo>
                  <a:pt x="18080" y="17691"/>
                  <a:pt x="18088" y="17641"/>
                  <a:pt x="18097" y="17611"/>
                </a:cubicBezTo>
                <a:cubicBezTo>
                  <a:pt x="18106" y="17579"/>
                  <a:pt x="18106" y="17555"/>
                  <a:pt x="18119" y="17526"/>
                </a:cubicBezTo>
                <a:cubicBezTo>
                  <a:pt x="18141" y="17475"/>
                  <a:pt x="18140" y="17454"/>
                  <a:pt x="18140" y="17399"/>
                </a:cubicBezTo>
                <a:cubicBezTo>
                  <a:pt x="18140" y="17328"/>
                  <a:pt x="18140" y="17258"/>
                  <a:pt x="18140" y="17187"/>
                </a:cubicBezTo>
                <a:cubicBezTo>
                  <a:pt x="18140" y="17151"/>
                  <a:pt x="18166" y="17242"/>
                  <a:pt x="18182" y="17272"/>
                </a:cubicBezTo>
                <a:cubicBezTo>
                  <a:pt x="18199" y="17305"/>
                  <a:pt x="18238" y="17364"/>
                  <a:pt x="18246" y="17399"/>
                </a:cubicBezTo>
                <a:cubicBezTo>
                  <a:pt x="18261" y="17461"/>
                  <a:pt x="18321" y="17512"/>
                  <a:pt x="18373" y="17568"/>
                </a:cubicBezTo>
                <a:cubicBezTo>
                  <a:pt x="18405" y="17603"/>
                  <a:pt x="18397" y="17635"/>
                  <a:pt x="18436" y="17674"/>
                </a:cubicBezTo>
              </a:path>
              <a:path w="9124" h="2711">
                <a:moveTo>
                  <a:pt x="18436" y="17018"/>
                </a:moveTo>
                <a:cubicBezTo>
                  <a:pt x="18440" y="17007"/>
                  <a:pt x="18479" y="16972"/>
                  <a:pt x="18500" y="16997"/>
                </a:cubicBezTo>
                <a:cubicBezTo>
                  <a:pt x="18528" y="17030"/>
                  <a:pt x="18501" y="17091"/>
                  <a:pt x="18521" y="17124"/>
                </a:cubicBezTo>
                <a:cubicBezTo>
                  <a:pt x="18533" y="17144"/>
                  <a:pt x="18553" y="17207"/>
                  <a:pt x="18563" y="17251"/>
                </a:cubicBezTo>
                <a:cubicBezTo>
                  <a:pt x="18576" y="17308"/>
                  <a:pt x="18610" y="17363"/>
                  <a:pt x="18627" y="17420"/>
                </a:cubicBezTo>
                <a:cubicBezTo>
                  <a:pt x="18635" y="17448"/>
                  <a:pt x="18645" y="17479"/>
                  <a:pt x="18648" y="17505"/>
                </a:cubicBezTo>
                <a:cubicBezTo>
                  <a:pt x="18654" y="17555"/>
                  <a:pt x="18674" y="17561"/>
                  <a:pt x="18690" y="17611"/>
                </a:cubicBezTo>
                <a:cubicBezTo>
                  <a:pt x="18700" y="17643"/>
                  <a:pt x="18711" y="17629"/>
                  <a:pt x="18711" y="17674"/>
                </a:cubicBezTo>
                <a:cubicBezTo>
                  <a:pt x="18711" y="17730"/>
                  <a:pt x="18711" y="17642"/>
                  <a:pt x="18711" y="17632"/>
                </a:cubicBezTo>
                <a:cubicBezTo>
                  <a:pt x="18711" y="17540"/>
                  <a:pt x="18714" y="17457"/>
                  <a:pt x="18690" y="17378"/>
                </a:cubicBezTo>
                <a:cubicBezTo>
                  <a:pt x="18679" y="17342"/>
                  <a:pt x="18680" y="17305"/>
                  <a:pt x="18669" y="17272"/>
                </a:cubicBezTo>
                <a:cubicBezTo>
                  <a:pt x="18652" y="17222"/>
                  <a:pt x="18662" y="17096"/>
                  <a:pt x="18690" y="17060"/>
                </a:cubicBezTo>
                <a:cubicBezTo>
                  <a:pt x="18717" y="17026"/>
                  <a:pt x="18756" y="17039"/>
                  <a:pt x="18796" y="17039"/>
                </a:cubicBezTo>
                <a:cubicBezTo>
                  <a:pt x="18845" y="17039"/>
                  <a:pt x="18895" y="17039"/>
                  <a:pt x="18944" y="17039"/>
                </a:cubicBezTo>
              </a:path>
              <a:path w="9124" h="2711">
                <a:moveTo>
                  <a:pt x="19177" y="17081"/>
                </a:moveTo>
                <a:cubicBezTo>
                  <a:pt x="19146" y="17156"/>
                  <a:pt x="19156" y="17248"/>
                  <a:pt x="19156" y="17335"/>
                </a:cubicBezTo>
                <a:cubicBezTo>
                  <a:pt x="19156" y="17423"/>
                  <a:pt x="19187" y="17473"/>
                  <a:pt x="19219" y="17526"/>
                </a:cubicBezTo>
                <a:cubicBezTo>
                  <a:pt x="19245" y="17569"/>
                  <a:pt x="19269" y="17596"/>
                  <a:pt x="19304" y="17632"/>
                </a:cubicBezTo>
                <a:cubicBezTo>
                  <a:pt x="19328" y="17656"/>
                  <a:pt x="19336" y="17680"/>
                  <a:pt x="19367" y="17695"/>
                </a:cubicBezTo>
                <a:cubicBezTo>
                  <a:pt x="19394" y="17708"/>
                  <a:pt x="19466" y="17731"/>
                  <a:pt x="19494" y="17738"/>
                </a:cubicBezTo>
                <a:cubicBezTo>
                  <a:pt x="19520" y="17744"/>
                  <a:pt x="19609" y="17744"/>
                  <a:pt x="19621" y="17716"/>
                </a:cubicBezTo>
                <a:cubicBezTo>
                  <a:pt x="19630" y="17696"/>
                  <a:pt x="19639" y="17610"/>
                  <a:pt x="19643" y="17589"/>
                </a:cubicBezTo>
                <a:cubicBezTo>
                  <a:pt x="19674" y="17441"/>
                  <a:pt x="19643" y="17254"/>
                  <a:pt x="19643" y="17103"/>
                </a:cubicBezTo>
                <a:cubicBezTo>
                  <a:pt x="19654" y="17133"/>
                  <a:pt x="19678" y="17181"/>
                  <a:pt x="19685" y="17208"/>
                </a:cubicBezTo>
                <a:cubicBezTo>
                  <a:pt x="19696" y="17253"/>
                  <a:pt x="19694" y="17289"/>
                  <a:pt x="19706" y="17335"/>
                </a:cubicBezTo>
                <a:cubicBezTo>
                  <a:pt x="19716" y="17376"/>
                  <a:pt x="19716" y="17422"/>
                  <a:pt x="19727" y="17462"/>
                </a:cubicBezTo>
                <a:cubicBezTo>
                  <a:pt x="19736" y="17495"/>
                  <a:pt x="19746" y="17510"/>
                  <a:pt x="19748" y="17547"/>
                </a:cubicBezTo>
                <a:cubicBezTo>
                  <a:pt x="19750" y="17577"/>
                  <a:pt x="19770" y="17610"/>
                  <a:pt x="19770" y="17611"/>
                </a:cubicBezTo>
                <a:cubicBezTo>
                  <a:pt x="19777" y="17643"/>
                  <a:pt x="19786" y="17686"/>
                  <a:pt x="19791" y="17716"/>
                </a:cubicBezTo>
                <a:cubicBezTo>
                  <a:pt x="19797" y="17753"/>
                  <a:pt x="19806" y="17792"/>
                  <a:pt x="19812" y="17822"/>
                </a:cubicBezTo>
                <a:cubicBezTo>
                  <a:pt x="19819" y="17856"/>
                  <a:pt x="19822" y="17876"/>
                  <a:pt x="19833" y="17907"/>
                </a:cubicBezTo>
                <a:cubicBezTo>
                  <a:pt x="19845" y="17942"/>
                  <a:pt x="19852" y="17975"/>
                  <a:pt x="19854" y="18013"/>
                </a:cubicBezTo>
                <a:cubicBezTo>
                  <a:pt x="19856" y="18052"/>
                  <a:pt x="19857" y="18067"/>
                  <a:pt x="19833" y="18097"/>
                </a:cubicBezTo>
                <a:cubicBezTo>
                  <a:pt x="19807" y="18130"/>
                  <a:pt x="19771" y="18213"/>
                  <a:pt x="19727" y="18224"/>
                </a:cubicBezTo>
                <a:cubicBezTo>
                  <a:pt x="19686" y="18234"/>
                  <a:pt x="19620" y="18239"/>
                  <a:pt x="19579" y="18246"/>
                </a:cubicBezTo>
                <a:cubicBezTo>
                  <a:pt x="19547" y="18252"/>
                  <a:pt x="19506" y="18246"/>
                  <a:pt x="19473" y="18246"/>
                </a:cubicBezTo>
                <a:cubicBezTo>
                  <a:pt x="19473" y="18152"/>
                  <a:pt x="19461" y="18051"/>
                  <a:pt x="19494" y="17970"/>
                </a:cubicBezTo>
                <a:cubicBezTo>
                  <a:pt x="19512" y="17925"/>
                  <a:pt x="19523" y="17882"/>
                  <a:pt x="19558" y="17843"/>
                </a:cubicBezTo>
                <a:cubicBezTo>
                  <a:pt x="19588" y="17809"/>
                  <a:pt x="19622" y="17769"/>
                  <a:pt x="19664" y="17759"/>
                </a:cubicBezTo>
                <a:cubicBezTo>
                  <a:pt x="19727" y="17744"/>
                  <a:pt x="19751" y="17732"/>
                  <a:pt x="19791" y="17695"/>
                </a:cubicBezTo>
                <a:cubicBezTo>
                  <a:pt x="19816" y="17672"/>
                  <a:pt x="19823" y="17646"/>
                  <a:pt x="19854" y="17632"/>
                </a:cubicBezTo>
                <a:cubicBezTo>
                  <a:pt x="19902" y="17610"/>
                  <a:pt x="19876" y="17631"/>
                  <a:pt x="19918" y="17589"/>
                </a:cubicBezTo>
                <a:cubicBezTo>
                  <a:pt x="19937" y="17570"/>
                  <a:pt x="19941" y="17563"/>
                  <a:pt x="19960" y="175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2880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lanet composition</a:t>
            </a:r>
            <a:endParaRPr b="0" lang="en-US" sz="4000" spc="-1" strike="noStrike">
              <a:solidFill>
                <a:srgbClr val="c1eeff"/>
              </a:solidFill>
              <a:latin typeface="Consolas"/>
            </a:endParaRPr>
          </a:p>
        </p:txBody>
      </p:sp>
      <p:sp>
        <p:nvSpPr>
          <p:cNvPr id="399" name=""/>
          <p:cNvSpPr txBox="1"/>
          <p:nvPr/>
        </p:nvSpPr>
        <p:spPr>
          <a:xfrm>
            <a:off x="428760" y="4714920"/>
            <a:ext cx="8572320" cy="2000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It looks like core is almost               Surface has always craters. I think i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aking the whole composition.       Disturbs asteroids way.</a:t>
            </a: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0" name="Picture 2" descr="antenna-mercury-core-solve-mystery_2"/>
          <p:cNvPicPr/>
          <p:nvPr/>
        </p:nvPicPr>
        <p:blipFill>
          <a:blip r:embed="rId1"/>
          <a:stretch/>
        </p:blipFill>
        <p:spPr>
          <a:xfrm>
            <a:off x="928800" y="785880"/>
            <a:ext cx="3500280" cy="3852720"/>
          </a:xfrm>
          <a:prstGeom prst="rect">
            <a:avLst/>
          </a:prstGeom>
          <a:ln w="0">
            <a:noFill/>
          </a:ln>
        </p:spPr>
      </p:pic>
      <p:pic>
        <p:nvPicPr>
          <p:cNvPr id="401" name="Picture 3" descr="208635main_mercury_craters_lg"/>
          <p:cNvPicPr/>
          <p:nvPr/>
        </p:nvPicPr>
        <p:blipFill>
          <a:blip r:embed="rId2"/>
          <a:stretch/>
        </p:blipFill>
        <p:spPr>
          <a:xfrm>
            <a:off x="4643280" y="928800"/>
            <a:ext cx="4084920" cy="342900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84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Exploration</a:t>
            </a:r>
            <a:endParaRPr b="0" lang="en-US" sz="4000" spc="-1" strike="noStrike">
              <a:solidFill>
                <a:srgbClr val="c1eeff"/>
              </a:solidFill>
              <a:latin typeface="Consolas"/>
            </a:endParaRPr>
          </a:p>
        </p:txBody>
      </p:sp>
      <p:sp>
        <p:nvSpPr>
          <p:cNvPr id="403" name=""/>
          <p:cNvSpPr txBox="1"/>
          <p:nvPr/>
        </p:nvSpPr>
        <p:spPr>
          <a:xfrm>
            <a:off x="428760" y="1428840"/>
            <a:ext cx="8572320" cy="5286240"/>
          </a:xfrm>
          <a:prstGeom prst="rect">
            <a:avLst/>
          </a:prstGeom>
          <a:noFill/>
          <a:ln w="0">
            <a:noFill/>
          </a:ln>
        </p:spPr>
        <p:txBody>
          <a:bodyPr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re are no probes or satellites sent there.          Because it’s too hot and cold. Also, too far away from here.</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orbel"/>
              </a:rPr>
              <a:t>Habitability</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y will ruin the planet, after periods like on earth. But I don’t think they are able to live or build some   construction, because of too weak gravity and big    temperature differences between daytime and         night. So, they might need very high technology       and so on. </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 </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Bibliography </a:t>
            </a:r>
            <a:endParaRPr b="0" lang="en-US" sz="4000" spc="-1" strike="noStrike">
              <a:solidFill>
                <a:srgbClr val="c1eeff"/>
              </a:solidFill>
              <a:latin typeface="Consolas"/>
            </a:endParaRPr>
          </a:p>
        </p:txBody>
      </p:sp>
      <p:sp>
        <p:nvSpPr>
          <p:cNvPr id="405" name=""/>
          <p:cNvSpPr txBox="1"/>
          <p:nvPr/>
        </p:nvSpPr>
        <p:spPr>
          <a:xfrm>
            <a:off x="500040" y="1285560"/>
            <a:ext cx="8501040" cy="5429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exploratorium.edu/ronh/we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hypertextbook.com/facts/2000/OlesyaNisanov.shtml</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http://solarsystem.nasa.gov/planets/profile.cfm?Object=Mercury&amp;Display=Facts</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solarsystem.nasa.gov/index.cfm</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www.kidsastronomy.com/solar_system.htm</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2487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Thank you for </a:t>
            </a:r>
            <a:br>
              <a:rPr sz="4800"/>
            </a:br>
            <a:r>
              <a:rPr b="0" lang="en-US" sz="4800" spc="-1" strike="noStrike">
                <a:solidFill>
                  <a:srgbClr val="c1eeff"/>
                </a:solidFill>
                <a:latin typeface="Consolas"/>
              </a:rPr>
              <a:t>watching my </a:t>
            </a:r>
            <a:br>
              <a:rPr sz="4800"/>
            </a:br>
            <a:r>
              <a:rPr b="0" lang="en-US" sz="4800" spc="-1" strike="noStrike">
                <a:solidFill>
                  <a:srgbClr val="c1eeff"/>
                </a:solidFill>
                <a:latin typeface="Consolas"/>
              </a:rPr>
              <a:t>presentation!</a:t>
            </a:r>
            <a:endParaRPr b="0" lang="en-US" sz="4800" spc="-1" strike="noStrike">
              <a:solidFill>
                <a:srgbClr val="c1eeff"/>
              </a:solidFill>
              <a:latin typeface="Consolas"/>
            </a:endParaRPr>
          </a:p>
        </p:txBody>
      </p:sp>
      <p:pic>
        <p:nvPicPr>
          <p:cNvPr id="407" name="Symbol zastępczy zawartości 3" descr="Bez tytułu.jpg"/>
          <p:cNvPicPr/>
          <p:nvPr/>
        </p:nvPicPr>
        <p:blipFill>
          <a:blip r:embed="rId1"/>
          <a:stretch/>
        </p:blipFill>
        <p:spPr>
          <a:xfrm>
            <a:off x="5430960" y="142920"/>
            <a:ext cx="3603600" cy="4357800"/>
          </a:xfrm>
          <a:prstGeom prst="rect">
            <a:avLst/>
          </a:prstGeom>
          <a:ln w="0">
            <a:noFill/>
          </a:ln>
        </p:spPr>
      </p:pic>
      <p:sp>
        <p:nvSpPr>
          <p:cNvPr id="408" name="Gwiazda 5-ramienna 4"/>
          <p:cNvSpPr/>
          <p:nvPr/>
        </p:nvSpPr>
        <p:spPr>
          <a:xfrm>
            <a:off x="1643040" y="3357720"/>
            <a:ext cx="1785960" cy="1428480"/>
          </a:xfrm>
          <a:prstGeom prst="pie">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00040" y="142920"/>
            <a:ext cx="8501040" cy="107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   </a:t>
            </a:r>
            <a:r>
              <a:rPr b="0" lang="en-US" sz="4800" spc="-1" strike="noStrike">
                <a:solidFill>
                  <a:srgbClr val="c1eeff"/>
                </a:solidFill>
                <a:latin typeface="Consolas"/>
              </a:rPr>
              <a:t>History of Mercury</a:t>
            </a:r>
            <a:endParaRPr b="0" lang="en-US" sz="4800" spc="-1" strike="noStrike">
              <a:solidFill>
                <a:srgbClr val="c1eeff"/>
              </a:solidFill>
              <a:latin typeface="Consolas"/>
            </a:endParaRPr>
          </a:p>
        </p:txBody>
      </p:sp>
      <p:sp>
        <p:nvSpPr>
          <p:cNvPr id="377" name=""/>
          <p:cNvSpPr txBox="1"/>
          <p:nvPr/>
        </p:nvSpPr>
        <p:spPr>
          <a:xfrm>
            <a:off x="428760" y="1356840"/>
            <a:ext cx="8572320" cy="53578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o discovered Mercur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ercury has been observed for thousands of years, and I believe the Babylonians are credited with     mentioning it in writing for the first time in some        3000   years ago or so. We do not know the name   of the individual who first discovered it, just as we do not know the name of the man/woman who        invented the whee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9680" y="142560"/>
            <a:ext cx="81867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   </a:t>
            </a:r>
            <a:r>
              <a:rPr b="0" lang="en-US" sz="5400" spc="-1" strike="noStrike">
                <a:solidFill>
                  <a:srgbClr val="c1eeff"/>
                </a:solidFill>
                <a:latin typeface="Consolas"/>
              </a:rPr>
              <a:t>Meaning of Mercury</a:t>
            </a:r>
            <a:endParaRPr b="0" lang="en-US" sz="5400" spc="-1" strike="noStrike">
              <a:solidFill>
                <a:srgbClr val="c1eeff"/>
              </a:solidFill>
              <a:latin typeface="Consolas"/>
            </a:endParaRPr>
          </a:p>
        </p:txBody>
      </p:sp>
      <p:sp>
        <p:nvSpPr>
          <p:cNvPr id="379" name=""/>
          <p:cNvSpPr txBox="1"/>
          <p:nvPr/>
        </p:nvSpPr>
        <p:spPr>
          <a:xfrm>
            <a:off x="500040" y="1071720"/>
            <a:ext cx="8501040" cy="47145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 astronomical mythology, Mercury was the Roman version of the god Hermes. He was the messenger for the other gods, and for this reason Mercury is  often depicted in pictures with winged sandals. In addition to delivering messages, he was also the   protector of travelers, and mercha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71320" y="142560"/>
            <a:ext cx="8343720" cy="1292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     </a:t>
            </a:r>
            <a:r>
              <a:rPr b="0" lang="en-US" sz="3600" spc="-1" strike="noStrike">
                <a:solidFill>
                  <a:srgbClr val="c1eeff"/>
                </a:solidFill>
                <a:latin typeface="Consolas"/>
              </a:rPr>
              <a:t>The picture of Mercury</a:t>
            </a:r>
            <a:endParaRPr b="0" lang="en-US" sz="3600" spc="-1" strike="noStrike">
              <a:solidFill>
                <a:srgbClr val="c1eeff"/>
              </a:solidFill>
              <a:latin typeface="Consolas"/>
            </a:endParaRPr>
          </a:p>
        </p:txBody>
      </p:sp>
      <p:sp>
        <p:nvSpPr>
          <p:cNvPr id="381" name="PlaceHolder 2"/>
          <p:cNvSpPr>
            <a:spLocks noGrp="1"/>
          </p:cNvSpPr>
          <p:nvPr>
            <p:ph/>
          </p:nvPr>
        </p:nvSpPr>
        <p:spPr>
          <a:xfrm>
            <a:off x="499680" y="1571400"/>
            <a:ext cx="3429000" cy="514332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s 2 pictures are Mercury</a:t>
            </a:r>
            <a:r>
              <a:rPr b="0" lang="en-US" sz="1800" spc="-1" strike="noStrike">
                <a:solidFill>
                  <a:srgbClr val="ffffff"/>
                </a:solidFill>
                <a:latin typeface="Corbel"/>
              </a:rPr>
              <a:t>.</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ut, unfortunately discoverer is            unknown still.</a:t>
            </a:r>
            <a:endParaRPr b="0" lang="en-US" sz="3200" spc="-1" strike="noStrike">
              <a:solidFill>
                <a:srgbClr val="ffffff"/>
              </a:solidFill>
              <a:latin typeface="Corbel"/>
            </a:endParaRPr>
          </a:p>
        </p:txBody>
      </p:sp>
      <p:pic>
        <p:nvPicPr>
          <p:cNvPr id="382" name="Picture 2" descr="http://www.enchantedlearning.com/mgifs/MercuryNASA.GIF"/>
          <p:cNvPicPr/>
          <p:nvPr/>
        </p:nvPicPr>
        <p:blipFill>
          <a:blip r:embed="rId1"/>
          <a:stretch/>
        </p:blipFill>
        <p:spPr>
          <a:xfrm>
            <a:off x="4071960" y="1785960"/>
            <a:ext cx="2433600" cy="2286000"/>
          </a:xfrm>
          <a:prstGeom prst="rect">
            <a:avLst/>
          </a:prstGeom>
          <a:ln w="0">
            <a:noFill/>
          </a:ln>
        </p:spPr>
      </p:pic>
      <p:pic>
        <p:nvPicPr>
          <p:cNvPr id="383" name="Picture 3" descr="\\SBS2008\redirected$\nauczyciel006n\Moje dokumenty\My Pictures\Bez tytułu.jpg"/>
          <p:cNvPicPr/>
          <p:nvPr/>
        </p:nvPicPr>
        <p:blipFill>
          <a:blip r:embed="rId2"/>
          <a:stretch/>
        </p:blipFill>
        <p:spPr>
          <a:xfrm>
            <a:off x="4572000" y="4214880"/>
            <a:ext cx="1962000" cy="2409840"/>
          </a:xfrm>
          <a:prstGeom prst="rect">
            <a:avLst/>
          </a:prstGeom>
          <a:ln w="0">
            <a:noFill/>
          </a:ln>
        </p:spPr>
      </p:pic>
      <p:pic>
        <p:nvPicPr>
          <p:cNvPr id="384" name="Picture 2" descr="http://tbn2.google.com/images?q=tbn:ZPryz4qbhHeZ2M:http://techdigest.tv/mercury.jpg"/>
          <p:cNvPicPr/>
          <p:nvPr/>
        </p:nvPicPr>
        <p:blipFill>
          <a:blip r:embed="rId3"/>
          <a:stretch/>
        </p:blipFill>
        <p:spPr>
          <a:xfrm>
            <a:off x="6715080" y="1714680"/>
            <a:ext cx="2214720" cy="2214360"/>
          </a:xfrm>
          <a:prstGeom prst="rect">
            <a:avLst/>
          </a:prstGeom>
          <a:ln w="0">
            <a:noFill/>
          </a:ln>
        </p:spPr>
      </p:pic>
      <p:sp>
        <p:nvSpPr>
          <p:cNvPr id="385" name="Strzałka w prawo 7"/>
          <p:cNvSpPr/>
          <p:nvPr/>
        </p:nvSpPr>
        <p:spPr>
          <a:xfrm rot="966600">
            <a:off x="3630600" y="2066400"/>
            <a:ext cx="1071720" cy="571680"/>
          </a:xfrm>
          <a:prstGeom prst="rightArrow">
            <a:avLst>
              <a:gd name="adj1" fmla="val 50000"/>
              <a:gd name="adj2" fmla="val 49991"/>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00040" y="142560"/>
            <a:ext cx="85010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800" spc="-1" strike="noStrike">
                <a:solidFill>
                  <a:srgbClr val="c1eeff"/>
                </a:solidFill>
                <a:latin typeface="Consolas"/>
              </a:rPr>
              <a:t>In solar system</a:t>
            </a:r>
            <a:endParaRPr b="0" lang="en-US" sz="4800" spc="-1" strike="noStrike">
              <a:solidFill>
                <a:srgbClr val="c1eeff"/>
              </a:solidFill>
              <a:latin typeface="Consolas"/>
            </a:endParaRPr>
          </a:p>
        </p:txBody>
      </p:sp>
      <p:sp>
        <p:nvSpPr>
          <p:cNvPr id="387" name=""/>
          <p:cNvSpPr txBox="1"/>
          <p:nvPr/>
        </p:nvSpPr>
        <p:spPr>
          <a:xfrm>
            <a:off x="500040" y="1428840"/>
            <a:ext cx="8501040" cy="52862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Order from the sun:   1</a:t>
            </a:r>
            <a:r>
              <a:rPr b="0" lang="en-US" sz="2500" spc="-1" strike="noStrike" baseline="30000">
                <a:solidFill>
                  <a:srgbClr val="ffffff"/>
                </a:solidFill>
                <a:latin typeface="Corbel"/>
              </a:rPr>
              <a:t>st</a:t>
            </a:r>
            <a:r>
              <a:rPr b="0" lang="en-US" sz="2500" spc="-1" strike="noStrike">
                <a:solidFill>
                  <a:srgbClr val="ffffff"/>
                </a:solidFill>
                <a:latin typeface="Corbel"/>
              </a:rPr>
              <a:t> !!!!!</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                                  </a:t>
            </a:r>
            <a:r>
              <a:rPr b="0" lang="en-US" sz="2500" spc="-1" strike="noStrike">
                <a:solidFill>
                  <a:srgbClr val="ffffff"/>
                </a:solidFill>
                <a:latin typeface="Corbel"/>
              </a:rPr>
              <a:t>The symbol of Mercury</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istance from the sun</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0.39AU               579000000 </a:t>
            </a:r>
            <a:r>
              <a:rPr b="1" i="1" lang="en-US" sz="2500" spc="-1" strike="noStrike">
                <a:solidFill>
                  <a:srgbClr val="ffffff"/>
                </a:solidFill>
                <a:latin typeface="Corbel"/>
              </a:rPr>
              <a:t>kilometers</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Corbel"/>
              </a:rPr>
              <a:t>It takes 88days to orbit the sun</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Andalus"/>
                <a:ea typeface="Andalus"/>
              </a:rPr>
              <a:t>It’s  perihelion (closest distance)is  45 million km and           Aphelion  is  69.7million km</a:t>
            </a:r>
            <a:endParaRPr b="0" lang="en-US" sz="25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Baskerville Old Face"/>
              </a:rPr>
              <a:t>1 day is 1416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Strzałka w prawo 3"/>
          <p:cNvSpPr/>
          <p:nvPr/>
        </p:nvSpPr>
        <p:spPr>
          <a:xfrm>
            <a:off x="6286680" y="2000160"/>
            <a:ext cx="571320" cy="428760"/>
          </a:xfrm>
          <a:prstGeom prst="rightArrow">
            <a:avLst>
              <a:gd name="adj1" fmla="val 50000"/>
              <a:gd name="adj2" fmla="val 49968"/>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pic>
        <p:nvPicPr>
          <p:cNvPr id="389" name="Picture 4" descr=""/>
          <p:cNvPicPr/>
          <p:nvPr/>
        </p:nvPicPr>
        <p:blipFill>
          <a:blip r:embed="rId1"/>
          <a:stretch/>
        </p:blipFill>
        <p:spPr>
          <a:xfrm>
            <a:off x="7000920" y="1500120"/>
            <a:ext cx="1785960" cy="213372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2880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What is it made of? </a:t>
            </a:r>
            <a:endParaRPr b="0" lang="en-US" sz="4000" spc="-1" strike="noStrike">
              <a:solidFill>
                <a:srgbClr val="c1eeff"/>
              </a:solidFill>
              <a:latin typeface="Consolas"/>
            </a:endParaRPr>
          </a:p>
        </p:txBody>
      </p:sp>
      <p:sp>
        <p:nvSpPr>
          <p:cNvPr id="391" name=""/>
          <p:cNvSpPr txBox="1"/>
          <p:nvPr/>
        </p:nvSpPr>
        <p:spPr>
          <a:xfrm>
            <a:off x="500040" y="928440"/>
            <a:ext cx="8501040" cy="5786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Mercury is made by…</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Mercury is a rocky planet with a huge iron core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    </a:t>
            </a:r>
            <a:r>
              <a:rPr b="1" lang="en-US" sz="2800" spc="-1" strike="noStrike">
                <a:solidFill>
                  <a:srgbClr val="ffffff"/>
                </a:solidFill>
                <a:latin typeface="Corbel"/>
              </a:rPr>
              <a:t>which makes up a large part of it’s interior. The core takes up nearly 3/4 of the planet's diameter.             Mercury's iron core is about the size of the moon.     Iron makes up about 70% of Mercury's total weight making Mercury the most iron-rich planet in the       solar system. On top of this core, lies an outer,          rocky shell which is about 350 miles (~550 km) thick.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71400" y="142920"/>
            <a:ext cx="6429240" cy="9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Planet measurement </a:t>
            </a:r>
            <a:endParaRPr b="0" lang="en-US" sz="4800" spc="-1" strike="noStrike">
              <a:solidFill>
                <a:srgbClr val="c1eeff"/>
              </a:solidFill>
              <a:latin typeface="Consolas"/>
            </a:endParaRPr>
          </a:p>
        </p:txBody>
      </p:sp>
      <p:sp>
        <p:nvSpPr>
          <p:cNvPr id="393" name=""/>
          <p:cNvSpPr txBox="1"/>
          <p:nvPr/>
        </p:nvSpPr>
        <p:spPr>
          <a:xfrm>
            <a:off x="500040" y="928440"/>
            <a:ext cx="8501040" cy="5786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Mass:</a:t>
            </a:r>
            <a:r>
              <a:rPr b="0" lang="pl-PL" sz="3000" spc="-1" strike="noStrike">
                <a:solidFill>
                  <a:srgbClr val="ffffff"/>
                </a:solidFill>
                <a:latin typeface="Corbel"/>
              </a:rPr>
              <a:t> 3.30e23 k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Volume:</a:t>
            </a:r>
            <a:r>
              <a:rPr b="0" lang="en-US" sz="3000" spc="-1" strike="noStrike">
                <a:solidFill>
                  <a:srgbClr val="ffffff"/>
                </a:solidFill>
                <a:latin typeface="Corbel"/>
              </a:rPr>
              <a:t>60,827,200,000 km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Equatorial Circumference:</a:t>
            </a:r>
            <a:r>
              <a:rPr b="0" lang="en-US" sz="3000" spc="-1" strike="noStrike">
                <a:solidFill>
                  <a:srgbClr val="ffffff"/>
                </a:solidFill>
                <a:latin typeface="Corbel"/>
              </a:rPr>
              <a:t>2,439.7 k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Mean Density:</a:t>
            </a:r>
            <a:r>
              <a:rPr b="0" lang="en-US" sz="3000" spc="-1" strike="noStrike">
                <a:solidFill>
                  <a:srgbClr val="ffffff"/>
                </a:solidFill>
                <a:latin typeface="Corbel"/>
              </a:rPr>
              <a:t>5.427 g/cm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Gravity:0.38 of ear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Diameter:  4,880k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If you weighed 100lbs. on Earth, how much would you weigh on your planet?                       </a:t>
            </a:r>
            <a:r>
              <a:rPr b="0" lang="en-US" sz="3000" spc="-1" strike="noStrike">
                <a:solidFill>
                  <a:srgbClr val="ffffff"/>
                </a:solidFill>
                <a:latin typeface="Corbel"/>
              </a:rPr>
              <a:t>38.46Ib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Temperature ranges 100k to 700k equator.</a:t>
            </a:r>
            <a:r>
              <a:rPr b="1" lang="ko-KR"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5716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temperature on Mercury</a:t>
            </a:r>
            <a:endParaRPr b="0" lang="en-US" sz="4000" spc="-1" strike="noStrike">
              <a:solidFill>
                <a:srgbClr val="c1eeff"/>
              </a:solidFill>
              <a:latin typeface="Consolas"/>
            </a:endParaRPr>
          </a:p>
        </p:txBody>
      </p:sp>
      <p:sp>
        <p:nvSpPr>
          <p:cNvPr id="395" name=""/>
          <p:cNvSpPr txBox="1"/>
          <p:nvPr/>
        </p:nvSpPr>
        <p:spPr>
          <a:xfrm>
            <a:off x="500040" y="857160"/>
            <a:ext cx="8501040" cy="585792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ighest surface temperature on mercury is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660`c and lowest temperature on mercury was</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200`c . Mercury is a planet that has big difference on temperature as well. This happens, because of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he sun. The area that expose to the sun will be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very hot, but other side will be freezing, because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here is no atmosphere to keep hotness or coldness.    It is similar circumstances with reason of night and   day in the earth.</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28760" y="1351080"/>
            <a:ext cx="8572320" cy="5364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no atmosphere, so there is no weather also. There is no major gases,</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Because of low pressure(the surface pressure is 761.84mm Hg).Minor gases are ‘helium, Oxygen, hydrogen and Sodium.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urface Conditions:</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Wind speeds: </a:t>
            </a:r>
            <a:r>
              <a:rPr b="0" lang="en-US" sz="2000" spc="-1" strike="noStrike">
                <a:solidFill>
                  <a:srgbClr val="ffffff"/>
                </a:solidFill>
                <a:latin typeface="Corbel"/>
              </a:rPr>
              <a:t>The wind speed on Mercury is zero. Mercury has no atmosphere, and that makes it impossible for there to be wind. Wind is the movement of atmospheric gas (air).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nly wind on Mercury is the solar wind, and most of that is deflected by Mercury's magnetic field</a:t>
            </a:r>
            <a:endParaRPr b="0" lang="en-US" sz="2000" spc="-1" strike="noStrike">
              <a:solidFill>
                <a:srgbClr val="ffffff"/>
              </a:solidFill>
              <a:latin typeface="Corbel"/>
            </a:endParaRPr>
          </a:p>
        </p:txBody>
      </p:sp>
      <p:sp>
        <p:nvSpPr>
          <p:cNvPr id="397" name="PlaceHolder 2"/>
          <p:cNvSpPr>
            <a:spLocks noGrp="1"/>
          </p:cNvSpPr>
          <p:nvPr>
            <p:ph type="title"/>
          </p:nvPr>
        </p:nvSpPr>
        <p:spPr>
          <a:xfrm>
            <a:off x="705960" y="512280"/>
            <a:ext cx="8156520" cy="776520"/>
          </a:xfrm>
          <a:prstGeom prst="rect">
            <a:avLst/>
          </a:prstGeom>
          <a:noFill/>
          <a:ln w="0">
            <a:noFill/>
          </a:ln>
        </p:spPr>
        <p:txBody>
          <a:bodyPr t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atmosphere in mercury</a:t>
            </a:r>
            <a:endParaRPr b="0" lang="en-US" sz="3800" spc="-1" strike="noStrike">
              <a:solidFill>
                <a:srgbClr val="c1eeff"/>
              </a:solidFill>
              <a:latin typeface="Consolas"/>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20:03:03Z</dcterms:created>
  <dc:creator>LG전자</dc:creator>
  <dc:description/>
  <dc:language>en-US</dc:language>
  <cp:lastModifiedBy>nauczyciel006n</cp:lastModifiedBy>
  <dcterms:modified xsi:type="dcterms:W3CDTF">2009-01-22T10:08:49Z</dcterms:modified>
  <cp:revision>24</cp:revision>
  <dc:subject/>
  <dc:title>Mercury </dc:title>
</cp:coreProperties>
</file>